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853-6F6C-4510-8D47-8A74EEB4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13F-DD19-4B9F-85C1-27CF01CEF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34C-46C4-40CC-89A8-8064D0F12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BEC-F27D-4D7B-91EA-7AFA209637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B58-3449-4229-B046-0E3F70E5D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325-0C31-426C-8348-F36F3E7F7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FFD-6DDC-4F7D-A81D-91EE54AB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E8C-672D-44B5-A65C-8B6E878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3DFE8-1269-4377-892F-C874225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92342-37EE-44C9-B5A6-49C2570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318D-7C00-417F-AD8C-74CB071A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828CA-C11D-43E3-82BD-2E72576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696B3-0231-454A-8EBE-526D9A4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33D4E-FE4A-4EEF-8E41-13D91CF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45EB3-BE6C-44D3-A06C-8E37AE6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D9FEB-5DFB-4FA0-A236-EA1DA568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D5E5E-83AE-4E9E-B320-24648AE5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523C7-1FE9-4D8E-9899-0EF6A37B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6B4-C925-40AA-B205-2255C81E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3FD1-69B4-4409-9A25-4D6F3DB2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F0CF6-2ECE-44C3-A8E2-C899C16F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28672-CFE8-4692-9EA4-A4B61EB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6BC63-EE6D-40EF-851A-ABB8E280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0D620-AF1C-4708-9CF3-E738DA0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CA651-C936-43A7-8F84-33C8D74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F9003-02B2-4249-AF98-7802974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CA03-D8E4-4EC4-9241-CA0C74E9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6307-D811-4FC0-B91C-F19462F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0D0BC-2B86-4FD6-9A9F-B8EB56B2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584-1ED6-4AF6-90C5-3F95732E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60F6B-3918-49B2-8294-6CFF1CA1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A84D-FE16-44B4-A623-C08BA91E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08187-B449-472B-A0CE-94EF313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566BC-3DE3-40FB-844A-F7E5F3F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B91A-0480-4F54-9DB1-6FF0EFC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D816D-F7C7-4ADF-B857-C4D4F00D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45E8-079B-487B-83A9-49430BC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68D3D-01FF-4F87-8489-A236BBB7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D6D1-B393-4202-AB71-C667A5F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6185-7AF7-4CE9-B724-61080C1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CAE-D114-4AA3-B577-4FC8526B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7435D-3FF8-4E4D-9071-C2CCF763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CBDC3-C63D-4035-890D-D383A619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02876-EF74-47F3-9456-4FB9218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D0744-533D-4032-A494-628061F5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A6CE5-993D-4D84-BD9A-F6A8825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943FC-A227-417C-A5A6-08965A4A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F69CF-E9AA-4ED3-8829-4ED173AA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726E-5317-40A0-9891-07C8768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8B3C5-A4F6-4AEB-8F19-8C05546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5D494-2C43-4734-BFF1-C74854C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7B96-1A0B-42A5-900C-E4196E00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27EBB-8B85-4EA5-8836-9467CAD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E143D-5BD2-48B8-8580-28A331D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685D0-A201-42F0-97A0-1224EDF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E4858-2DEB-48DD-B4D8-AE7BAF91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73E69-1D04-4DB5-87BE-4F158759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461-D872-4B5A-8951-D5F8BC5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E30B-3C35-4456-A183-6FAD6E0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765-F5B0-4BF3-879F-099EA54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70B9-0A3C-4245-AFAA-1DDDB6D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073-2CE5-401A-9546-CA44B43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128-793F-42CB-AA61-252E75E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0AE-4379-4FE0-934B-6A0BEF3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B412-E33A-4E9D-B5BB-391E7096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393-F303-465A-9AD5-56740B5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A98E-05FA-4EB0-9E30-E93C5F0F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16E5-F4C1-4873-80B3-A774BC28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8B56-1048-42A7-9A6A-09667F04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066B-D1BA-43E9-9D74-B3AA1416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81D8-B061-4058-97B8-80477C2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7432-2DF9-4968-99DB-4F6C966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64F1-9F7D-48F6-846B-963B6FD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0E5-D0DD-4B4B-9338-0B6E3BC6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CF62-C016-4CF1-904D-35BE6F9C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964B-7CB4-48E0-B4F6-12126BB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30FD-767E-404A-B768-A608338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8D56-E67C-4B59-9CDD-2112D3C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C8D5-0AAB-4204-BCE3-67F1E185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89AF-8165-4846-8CE0-DBB4F379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0E8C-83F9-4E32-9EE1-C50C0A41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6890-093F-4984-B8CC-D80DC319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2B01-1C70-4172-A4EF-086FD998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805B-930B-44C0-8AE5-A0B6DAC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5D6-E215-4566-B6BF-3E67AC0E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529A-945B-4DB4-AE02-E350F47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6EDD-00B5-4C25-B7F0-F86DADC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232F-9504-45A2-BBFB-3A4E336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D285-4A41-4184-9E14-0B09BB3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6309-D9C7-4705-8B9C-BF8A8D2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32C6-5706-4E99-8AF6-4CA368DC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EFAC-B9A0-40A1-9E89-EBA12D57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62B1-5145-4670-AEF5-695BD1FF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7E5C-E0A8-4A60-9CE5-C754B23A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45FE-CEC0-49D1-BCB2-1103BF40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533-6CBC-43A0-ABDD-884DEA5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C203-40CF-4CBA-B66A-0D340428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A529-66EE-48FF-BEE4-C2AF767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108B6-C9BA-445A-9138-671D1C29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95EE-504C-4283-8EE1-C277A00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D0F2-2CA3-4B91-B630-5DC1E6F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E8B8-7168-4668-8754-E082BAE0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6E8E-12FE-4482-B711-9408496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8D5D4-9EF0-4E4E-B207-8AE35AD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A7A2-CFF9-4133-9E13-6E630DFC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5BE7-0C9B-443C-8390-0B539938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382-6570-48F0-9CBF-84554C5B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AF6D5-E87C-4521-9FE9-15C30E1E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1176E-2359-4BC4-A9B9-B5C8FE0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A954-AA7B-42BC-9C72-BF5B2A1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95A0-84A8-40EB-99FE-AE6D1850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01EC-E898-4657-9C27-D533241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C293A-5AAE-49E5-AD5F-7EAE0FA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B87B-61CC-4928-987E-986D2C28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30867-2857-4D12-A972-D48F1DEC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E069-7AD2-45BA-BDEF-9F23735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CE4D-E9BA-4545-AE16-F2A466F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086-60A0-47CF-8073-FAD64C1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7FD1-2DC2-4901-9558-8A2101E3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CC45-CF15-4B9A-B5D5-874B9DAB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5AD3-3DF0-4C73-80E0-7F5B025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75FE0-2F03-46C1-9A13-7597329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0A8E-1A08-4242-B9C7-CFB5535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F991-6622-4EF0-A954-71F25127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97ED-C3D6-4C0E-8A62-52706890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06C1-B510-4742-AEBE-5D2660C5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1FAE-E21E-4B30-8CD0-80E927D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8B1F-2722-44EA-A167-CB62F91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0FC-8807-46E8-8487-EA52E10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7FFB-6826-49E9-BEE0-7B6D512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4B77C-7729-430C-A7D3-40A3C37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42588-1DC6-49AC-9A16-8DBA771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8BA2D-581B-47AB-B568-E3453AEF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8269-EA43-4097-B66E-69E35B55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F523-D95D-4A3E-BD2E-27B04BF0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8BBF-3629-48E4-9BFA-6D2FA0F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298EF-0E9C-4327-A606-4FC62546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94A5-9E1C-48AE-89D6-E74DA7C5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9CF6-CDA3-4429-8DCA-9B6F0BB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4B1-63DF-45E3-B8CA-1E6178C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3380-1A5B-4801-89DB-BB0FB1D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6300-13F9-4B3B-A8F3-2B3A5A8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33B82-9338-4C1E-BD9F-20797E3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04C9-3F5D-44DF-BC82-58987A7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76A54-0960-44F5-BCA9-9E7482B1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AEB6-0CE8-43AA-8BED-CB9F2ABC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689F-6ECD-4D5B-93A8-98EA313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38443-DCE6-4A00-99E4-2BB063E2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C734-4D9A-4D95-B3CE-C0E07E7E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2909D-B7AA-45A3-8DDA-388815F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DAF-CBF9-4949-A8E8-8E0724474B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C966-BDB1-474E-95C9-44F40B547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874-F46C-4868-A679-4671D8C4A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1C3D-2B82-410A-97F6-596E87C87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1C3-B27E-470E-8AAB-10BB888D0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DA2-739F-4522-875A-3F856AF15C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653-650E-4D8D-B393-D76D660A40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570-6675-4E55-AB32-580AE6668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60C4-77AA-45E7-BB48-479FCE8877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D62-04A5-4669-A280-9F8DE15F68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49C-CA69-4CC0-838D-C4700D9CB8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B00B-AE1B-4D38-8C38-D065979CC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dQBurXQOe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498600" y="2886120"/>
            <a:ext cx="5984640" cy="121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Digital Citizenship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quitlam River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bruary 27, 2013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24000" cy="2306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2641680" y="458136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4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come across a Facebook page where people have posted inappropriate things about you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440712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 rot="17100000">
            <a:off x="-591120" y="279936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Cyberbully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689280" y="836280"/>
            <a:ext cx="54547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The “S” Strateg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tay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Coo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hut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the Bully ou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ay “Stop”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o the Bull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ave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how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an adul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0" name="Picture 5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1909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</a:t>
            </a:r>
            <a:r>
              <a:rPr b="0" lang="en-US" sz="4000" spc="-1" strike="noStrike">
                <a:solidFill>
                  <a:srgbClr val="00b050"/>
                </a:solidFill>
                <a:latin typeface="Rockwell"/>
              </a:rPr>
              <a:t>Online Citizen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24360" y="1125000"/>
            <a:ext cx="4657680" cy="50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 respectful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others - as you would face to fa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appropriate langu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roper text representation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– using capitals is like SHOUTING and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Bold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n imply angr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 lawfu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atient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and forg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 sur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eople know when you’re jok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- lol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a personal profile online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a cell phone? Ipod touch? Ipad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osted videos or pictures of yourself online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t online? Text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ever received messages from people you don’t know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had mean things said about them online?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3571560" y="2602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ook at </a:t>
            </a:r>
            <a:r>
              <a:rPr b="0" lang="en-US" sz="2800" spc="-1" strike="noStrike">
                <a:solidFill>
                  <a:srgbClr val="ffff00"/>
                </a:solidFill>
                <a:latin typeface="Rockwell"/>
              </a:rPr>
              <a:t>our us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f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e our awareness of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plore strategies to encourage </a:t>
            </a:r>
            <a:r>
              <a:rPr b="0" lang="en-US" sz="2800" spc="-1" strike="noStrike">
                <a:solidFill>
                  <a:srgbClr val="00b050"/>
                </a:solidFill>
                <a:latin typeface="Rockwell"/>
              </a:rPr>
              <a:t>“Digital Citizenship/ Social Responsibility onlin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62840" y="4653000"/>
            <a:ext cx="1887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</a:t>
            </a:r>
            <a:r>
              <a:rPr b="0" lang="en-US" sz="4400" spc="-1" strike="noStrike">
                <a:solidFill>
                  <a:srgbClr val="ff0000"/>
                </a:solidFill>
                <a:latin typeface="Rockwell"/>
              </a:rPr>
              <a:t> Cyber-bullying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924360" y="3701880"/>
            <a:ext cx="4594320" cy="29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images.jpg"/>
          <p:cNvPicPr/>
          <p:nvPr/>
        </p:nvPicPr>
        <p:blipFill>
          <a:blip r:embed="rId3"/>
          <a:stretch/>
        </p:blipFill>
        <p:spPr>
          <a:xfrm rot="954000">
            <a:off x="367776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imagesCAKTRLBD.jpg"/>
          <p:cNvPicPr/>
          <p:nvPr/>
        </p:nvPicPr>
        <p:blipFill>
          <a:blip r:embed="rId4"/>
          <a:stretch/>
        </p:blipFill>
        <p:spPr>
          <a:xfrm>
            <a:off x="7307280" y="318600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imagesCAN03YNH.jpg"/>
          <p:cNvPicPr/>
          <p:nvPr/>
        </p:nvPicPr>
        <p:blipFill>
          <a:blip r:embed="rId5"/>
          <a:stretch/>
        </p:blipFill>
        <p:spPr>
          <a:xfrm>
            <a:off x="6627960" y="5546880"/>
            <a:ext cx="2004840" cy="1122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7" descr=""/>
          <p:cNvPicPr/>
          <p:nvPr/>
        </p:nvPicPr>
        <p:blipFill>
          <a:blip r:embed="rId6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8" descr=""/>
          <p:cNvPicPr/>
          <p:nvPr/>
        </p:nvPicPr>
        <p:blipFill>
          <a:blip r:embed="rId7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7" descr=""/>
          <p:cNvPicPr/>
          <p:nvPr/>
        </p:nvPicPr>
        <p:blipFill>
          <a:blip r:embed="rId8"/>
          <a:stretch/>
        </p:blipFill>
        <p:spPr>
          <a:xfrm rot="18072000">
            <a:off x="210240" y="4986720"/>
            <a:ext cx="1467000" cy="855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9" descr=""/>
          <p:cNvPicPr/>
          <p:nvPr/>
        </p:nvPicPr>
        <p:blipFill>
          <a:blip r:embed="rId9"/>
          <a:stretch/>
        </p:blipFill>
        <p:spPr>
          <a:xfrm>
            <a:off x="2719440" y="4456080"/>
            <a:ext cx="2840040" cy="828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0" descr=""/>
          <p:cNvPicPr/>
          <p:nvPr/>
        </p:nvPicPr>
        <p:blipFill>
          <a:blip r:embed="rId10"/>
          <a:stretch/>
        </p:blipFill>
        <p:spPr>
          <a:xfrm>
            <a:off x="5497560" y="1268280"/>
            <a:ext cx="2133720" cy="1195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1" descr=""/>
          <p:cNvPicPr/>
          <p:nvPr/>
        </p:nvPicPr>
        <p:blipFill>
          <a:blip r:embed="rId11"/>
          <a:stretch/>
        </p:blipFill>
        <p:spPr>
          <a:xfrm>
            <a:off x="341280" y="1635120"/>
            <a:ext cx="19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2" descr=""/>
          <p:cNvPicPr/>
          <p:nvPr/>
        </p:nvPicPr>
        <p:blipFill>
          <a:blip r:embed="rId12"/>
          <a:stretch/>
        </p:blipFill>
        <p:spPr>
          <a:xfrm rot="20171400">
            <a:off x="328680" y="541080"/>
            <a:ext cx="1985760" cy="1125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3" descr=""/>
          <p:cNvPicPr/>
          <p:nvPr/>
        </p:nvPicPr>
        <p:blipFill>
          <a:blip r:embed="rId13"/>
          <a:stretch/>
        </p:blipFill>
        <p:spPr>
          <a:xfrm rot="1098000">
            <a:off x="5452560" y="3956040"/>
            <a:ext cx="1895760" cy="1530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4" descr=""/>
          <p:cNvPicPr/>
          <p:nvPr/>
        </p:nvPicPr>
        <p:blipFill>
          <a:blip r:embed="rId14"/>
          <a:stretch/>
        </p:blipFill>
        <p:spPr>
          <a:xfrm>
            <a:off x="185760" y="2671920"/>
            <a:ext cx="1533600" cy="180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5" descr=""/>
          <p:cNvPicPr/>
          <p:nvPr/>
        </p:nvPicPr>
        <p:blipFill>
          <a:blip r:embed="rId15"/>
          <a:stretch/>
        </p:blipFill>
        <p:spPr>
          <a:xfrm>
            <a:off x="3922560" y="1922400"/>
            <a:ext cx="157500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go onlin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"/>
          <p:cNvSpPr txBox="1"/>
          <p:nvPr/>
        </p:nvSpPr>
        <p:spPr>
          <a:xfrm rot="996000">
            <a:off x="3300120" y="184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dependenc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nec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Adventu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long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is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Cre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ing hear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dent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5" name="Picture 4" descr="MPj04312170000[1]"/>
          <p:cNvPicPr/>
          <p:nvPr/>
        </p:nvPicPr>
        <p:blipFill>
          <a:blip r:embed="rId1"/>
          <a:stretch/>
        </p:blipFill>
        <p:spPr>
          <a:xfrm>
            <a:off x="6012000" y="3213000"/>
            <a:ext cx="302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r best friend asks for your password to your school account or your favourite online sit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8" name="Picture 5" descr="C:\Users\dsands\AppData\Local\Microsoft\Windows\Temporary Internet Files\Content.IE5\6QOL6NSR\MC900060335[1].wmf"/>
          <p:cNvPicPr/>
          <p:nvPr/>
        </p:nvPicPr>
        <p:blipFill>
          <a:blip r:embed="rId1"/>
          <a:stretch/>
        </p:blipFill>
        <p:spPr>
          <a:xfrm>
            <a:off x="311040" y="4292640"/>
            <a:ext cx="400860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chatting online with friends and someone says something mean about you and the others join in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1" name="Picture 6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53593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omeone takes a picture of you that you do not like and posts it onlin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095720" y="3284640"/>
            <a:ext cx="3941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18:38:58Z</dcterms:modified>
  <cp:revision>68</cp:revision>
  <dc:subject/>
  <dc:title>Technology, kids and you</dc:title>
</cp:coreProperties>
</file>